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hzipup01.wav" ContentType="audio/x-wav"/>
  <Override PartName="/ppt/media/caralarmoff.wav" ContentType="audio/x-wav"/>
  <Override PartName="/ppt/media/lzipup01.wav" ContentType="audio/x-wav"/>
  <Override PartName="/ppt/media/children%20wow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615C-C9BF-42F0-B727-6C644820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CD4E-5735-4CEA-BBA0-21F13DB0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7940-E0DC-47D6-913C-B509A426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0AE-73E7-4702-9994-521AD413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91FC-4002-4DED-A612-2C185A96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271-7A0F-4132-B584-ACF1679C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B36-73A4-4F01-9F13-109CC7C1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841A-935D-4597-9FE3-C819E3BF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90DE-3AD8-45E5-96F4-B8D7E8B0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5A07-8492-4C1F-A59A-042280F9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D61-3E1B-4743-8E9B-29C71554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4A1-D415-456E-8C39-9C00C33C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2C14-F4EC-44D6-913E-C26967C80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jetflyby2.wav"/><Relationship Id="rId7" Type="http://schemas.openxmlformats.org/officeDocument/2006/relationships/audio" Target="../media/bserie06.wav"/><Relationship Id="rId8" Type="http://schemas.openxmlformats.org/officeDocument/2006/relationships/audio" Target="../media/jetflyby2.wav"/><Relationship Id="rId9" Type="http://schemas.openxmlformats.org/officeDocument/2006/relationships/audio" Target="../media/bserie06.wav"/><Relationship Id="rId10" Type="http://schemas.openxmlformats.org/officeDocument/2006/relationships/audio" Target="../media/hzipup01.wav"/><Relationship Id="rId11" Type="http://schemas.openxmlformats.org/officeDocument/2006/relationships/audio" Target="../media/bserie06.wav"/><Relationship Id="rId12" Type="http://schemas.openxmlformats.org/officeDocument/2006/relationships/audio" Target="../media/zapbig0g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jetflyby2.wav"/><Relationship Id="rId7" Type="http://schemas.openxmlformats.org/officeDocument/2006/relationships/audio" Target="../media/bserie06.wav"/><Relationship Id="rId8" Type="http://schemas.openxmlformats.org/officeDocument/2006/relationships/audio" Target="../media/jetflyby2.wav"/><Relationship Id="rId9" Type="http://schemas.openxmlformats.org/officeDocument/2006/relationships/audio" Target="../media/bserie06.wav"/><Relationship Id="rId10" Type="http://schemas.openxmlformats.org/officeDocument/2006/relationships/audio" Target="../media/jetflyby2.wav"/><Relationship Id="rId11" Type="http://schemas.openxmlformats.org/officeDocument/2006/relationships/audio" Target="../media/bserie06.wav"/><Relationship Id="rId12" Type="http://schemas.openxmlformats.org/officeDocument/2006/relationships/audio" Target="../media/hzipup01.wav"/><Relationship Id="rId13" Type="http://schemas.openxmlformats.org/officeDocument/2006/relationships/audio" Target="../media/bserie06.wav"/><Relationship Id="rId14" Type="http://schemas.openxmlformats.org/officeDocument/2006/relationships/audio" Target="../media/zapbig0g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jetflyby2.wav"/><Relationship Id="rId7" Type="http://schemas.openxmlformats.org/officeDocument/2006/relationships/audio" Target="../media/bserie06.wav"/><Relationship Id="rId8" Type="http://schemas.openxmlformats.org/officeDocument/2006/relationships/audio" Target="../media/jetflyby2.wav"/><Relationship Id="rId9" Type="http://schemas.openxmlformats.org/officeDocument/2006/relationships/audio" Target="../media/bserie06.wav"/><Relationship Id="rId10" Type="http://schemas.openxmlformats.org/officeDocument/2006/relationships/audio" Target="../media/hzipup01.wav"/><Relationship Id="rId11" Type="http://schemas.openxmlformats.org/officeDocument/2006/relationships/audio" Target="../media/bserie06.wav"/><Relationship Id="rId12" Type="http://schemas.openxmlformats.org/officeDocument/2006/relationships/audio" Target="../media/zapbig0g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hzipup01.wav"/><Relationship Id="rId17" Type="http://schemas.openxmlformats.org/officeDocument/2006/relationships/audio" Target="../media/jetflyby2.wav"/><Relationship Id="rId18" Type="http://schemas.openxmlformats.org/officeDocument/2006/relationships/audio" Target="../media/bserie06.wav"/><Relationship Id="rId19" Type="http://schemas.openxmlformats.org/officeDocument/2006/relationships/audio" Target="../media/jetflyby2.wav"/><Relationship Id="rId20" Type="http://schemas.openxmlformats.org/officeDocument/2006/relationships/audio" Target="../media/bserie06.wav"/><Relationship Id="rId21" Type="http://schemas.openxmlformats.org/officeDocument/2006/relationships/audio" Target="../media/hzipup01.wav"/><Relationship Id="rId22" Type="http://schemas.openxmlformats.org/officeDocument/2006/relationships/audio" Target="../media/bserie06.wav"/><Relationship Id="rId23" Type="http://schemas.openxmlformats.org/officeDocument/2006/relationships/audio" Target="../media/zapbig0g.wav"/><Relationship Id="rId24" Type="http://schemas.openxmlformats.org/officeDocument/2006/relationships/audio" Target="../media/children%20wow.wav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Estimate Sums and Differenc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6600" y="1849320"/>
            <a:ext cx="208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  856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65080" y="3286080"/>
            <a:ext cx="155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92560" y="3216240"/>
            <a:ext cx="122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6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7520" y="245268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7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3200" y="248616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24240" y="185436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9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86080" y="247320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3" idx="3"/>
            <a:endCxn id="48" idx="1"/>
          </p:cNvCxnSpPr>
          <p:nvPr/>
        </p:nvCxnSpPr>
        <p:spPr>
          <a:xfrm>
            <a:off x="2417760" y="2307600"/>
            <a:ext cx="906840" cy="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endCxn id="49" idx="1"/>
          </p:cNvCxnSpPr>
          <p:nvPr/>
        </p:nvCxnSpPr>
        <p:spPr>
          <a:xfrm flipV="1">
            <a:off x="2425680" y="2931480"/>
            <a:ext cx="86076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3195720" y="3292560"/>
            <a:ext cx="129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09800" y="249876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Estimate Sums and Differenc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6600" y="1849320"/>
            <a:ext cx="26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  3,456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2480" y="3971880"/>
            <a:ext cx="196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70520" y="3976560"/>
            <a:ext cx="209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0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7520" y="2452680"/>
            <a:ext cx="17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,37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1040" y="3111480"/>
            <a:ext cx="76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73640" y="1854360"/>
            <a:ext cx="217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35480" y="24732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3"/>
            <a:endCxn id="61" idx="1"/>
          </p:cNvCxnSpPr>
          <p:nvPr/>
        </p:nvCxnSpPr>
        <p:spPr>
          <a:xfrm>
            <a:off x="2982600" y="2306520"/>
            <a:ext cx="2291400" cy="5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9" idx="3"/>
            <a:endCxn id="62" idx="1"/>
          </p:cNvCxnSpPr>
          <p:nvPr/>
        </p:nvCxnSpPr>
        <p:spPr>
          <a:xfrm>
            <a:off x="2974680" y="2909520"/>
            <a:ext cx="2261160" cy="20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5254560" y="3976560"/>
            <a:ext cx="171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3120" y="3170160"/>
            <a:ext cx="6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01680" y="3124080"/>
            <a:ext cx="17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,6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3144960"/>
            <a:ext cx="195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5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7" idx="3"/>
            <a:endCxn id="68" idx="1"/>
          </p:cNvCxnSpPr>
          <p:nvPr/>
        </p:nvCxnSpPr>
        <p:spPr>
          <a:xfrm>
            <a:off x="2958840" y="3581280"/>
            <a:ext cx="2261160" cy="2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3680" y="622440"/>
            <a:ext cx="89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3. You started with $1, 920. You spent $279 and $413. Estimate how much you have lef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846440"/>
            <a:ext cx="12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79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8480" y="3270240"/>
            <a:ext cx="155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5960" y="3200400"/>
            <a:ext cx="122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80920" y="243684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6600" y="2379600"/>
            <a:ext cx="58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87640" y="183816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49480" y="245736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2" idx="3"/>
            <a:endCxn id="77" idx="1"/>
          </p:cNvCxnSpPr>
          <p:nvPr/>
        </p:nvCxnSpPr>
        <p:spPr>
          <a:xfrm flipV="1">
            <a:off x="2184120" y="2294640"/>
            <a:ext cx="803880" cy="9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endCxn id="78" idx="1"/>
          </p:cNvCxnSpPr>
          <p:nvPr/>
        </p:nvCxnSpPr>
        <p:spPr>
          <a:xfrm flipV="1">
            <a:off x="2089080" y="2914200"/>
            <a:ext cx="86112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2859120" y="3276720"/>
            <a:ext cx="129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73200" y="248292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4400" y="4089240"/>
            <a:ext cx="176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,92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0280" y="552600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16320" y="5468760"/>
            <a:ext cx="195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,2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52360" y="46926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7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8040" y="472608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59080" y="4094280"/>
            <a:ext cx="178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,9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4960" y="4687920"/>
            <a:ext cx="157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7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3" idx="3"/>
            <a:endCxn id="88" idx="1"/>
          </p:cNvCxnSpPr>
          <p:nvPr/>
        </p:nvCxnSpPr>
        <p:spPr>
          <a:xfrm>
            <a:off x="2405160" y="4546440"/>
            <a:ext cx="854640" cy="5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6" idx="3"/>
            <a:endCxn id="89" idx="1"/>
          </p:cNvCxnSpPr>
          <p:nvPr/>
        </p:nvCxnSpPr>
        <p:spPr>
          <a:xfrm flipV="1">
            <a:off x="2376000" y="5144400"/>
            <a:ext cx="1399320" cy="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3130560" y="5532480"/>
            <a:ext cx="18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43160" y="471312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3840" y="2252520"/>
            <a:ext cx="43401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Times New Roman"/>
              </a:rPr>
              <a:t>You would have about $1,20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5, 1 – 6 #1-9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8-11T15:45:04Z</dcterms:modified>
  <cp:revision>50</cp:revision>
  <dc:subject/>
  <dc:title>Slide 1</dc:title>
</cp:coreProperties>
</file>